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gif" ContentType="image/gif"/>
  <Override PartName="/ppt/media/image7.png" ContentType="image/png"/>
  <Override PartName="/ppt/media/image12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9C71-7325-4B2D-B7A2-35DFDBCD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4290-212F-419E-A047-686A9C2C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C107-3DBD-4A90-8C60-1237EB60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E84-DC25-4743-A4DA-0AE0D2F8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BDE-42CC-461D-A393-56F8DE36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38B-786C-4B06-84DB-197D9BD9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FC0D-57D3-4A4A-8C53-B863A646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3820-1BDA-4158-A843-21772B96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E0C3-BA7A-4565-8CC8-BFD81F49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F43-D2D3-48D8-A8AF-64DD2F9F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625-6FAE-46D9-9671-844AA13D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4E1-E018-4039-BF4E-B6D297F0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5952-59EB-4A36-A3C8-EBF8C7777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.wigflip.com/a/NLklK0QI/easystreet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mississippi.s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enchantedlearning.com/usa/states/mississippi/" TargetMode="External"/><Relationship Id="rId4" Type="http://schemas.openxmlformats.org/officeDocument/2006/relationships/hyperlink" Target="http://www.enchantedlearning.com/usa/states/mississippi/" TargetMode="External"/><Relationship Id="rId5" Type="http://schemas.openxmlformats.org/officeDocument/2006/relationships/hyperlink" Target="http://www.enchantedlearning.com/usa/states/mississippi/" TargetMode="External"/><Relationship Id="rId6" Type="http://schemas.openxmlformats.org/officeDocument/2006/relationships/hyperlink" Target="http://www.enchantedlearning.com/usa/statesbw/mississippi.shtml" TargetMode="External"/><Relationship Id="rId7" Type="http://schemas.openxmlformats.org/officeDocument/2006/relationships/image" Target="../media/image4.png"/><Relationship Id="rId8" Type="http://schemas.openxmlformats.org/officeDocument/2006/relationships/hyperlink" Target="http://www.enchantedlearning.com/usa/states/mississippi/" TargetMode="External"/><Relationship Id="rId9" Type="http://schemas.openxmlformats.org/officeDocument/2006/relationships/hyperlink" Target="http://www.enchantedlearning.com/usa/states/mississippi/" TargetMode="External"/><Relationship Id="rId10" Type="http://schemas.openxmlformats.org/officeDocument/2006/relationships/hyperlink" Target="http://www.enchantedlearning.com/usa/states/mississippi/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flags/mississippi/mississippiflag.shtml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enchantedlearning.com/usa/states/mississippi/" TargetMode="External"/><Relationship Id="rId4" Type="http://schemas.openxmlformats.org/officeDocument/2006/relationships/hyperlink" Target="http://www.enchantedlearning.com/usa/states/mississippi/" TargetMode="External"/><Relationship Id="rId5" Type="http://schemas.openxmlformats.org/officeDocument/2006/relationships/hyperlink" Target="http://www.enchantedlearning.com/usa/states/mississippi/" TargetMode="External"/><Relationship Id="rId6" Type="http://schemas.openxmlformats.org/officeDocument/2006/relationships/image" Target="../media/image6.gif"/><Relationship Id="rId7" Type="http://schemas.openxmlformats.org/officeDocument/2006/relationships/hyperlink" Target="http://www.theus50.com/mississippi/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www.postcardsfrom.com/t1/000424.html" TargetMode="External"/><Relationship Id="rId5" Type="http://schemas.openxmlformats.org/officeDocument/2006/relationships/hyperlink" Target="http://www.postcardsfrom.com/t1/000424.html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postcardsfrom.com/stamp/stamp-ms.html" TargetMode="External"/><Relationship Id="rId3" Type="http://schemas.openxmlformats.org/officeDocument/2006/relationships/image" Target="../media/image11.png"/><Relationship Id="rId4" Type="http://schemas.openxmlformats.org/officeDocument/2006/relationships/hyperlink" Target="http://www.postcardsfrom.com/stamp/stamp-ms.html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00800" y="5029200"/>
            <a:ext cx="2514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9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600200"/>
            <a:ext cx="7910640" cy="258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62120" y="5181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5791320"/>
            <a:ext cx="3276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ississippi State So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4/10/12, www.50stat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Capital: Jack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tion: 2,844,658 (3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ost populous state in the U.S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ed the Union: December 10, 1817/ 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to: Virtute et Armis (By valor and ar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ckname: Magnolia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ower: Magnolia (magnolia grandiflor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rd: Mocking bi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ng: Go Mis-sis-sip-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ning behind name: Agnoquorian for “big river”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ne: Petrified w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verage: M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ect: Honeyb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er Mammal: Bottlenose dolph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4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80880"/>
            <a:ext cx="2881080" cy="4496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4952880"/>
            <a:ext cx="289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ississipp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/21/20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enchantedlearning.com/usa/states/mississippi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038480" y="2590920"/>
            <a:ext cx="4267440" cy="225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8480" y="5105520"/>
            <a:ext cx="42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ississipp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/21/20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enchantedlearning.com/usa/states/mississippi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114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ssippi is in the South-East of the United States. It’s capital is Jack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5e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609480"/>
            <a:ext cx="4495680" cy="3011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38480" y="4114800"/>
            <a:ext cx="441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Fla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/22/20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enchantedlearning.com/usa/states/mississippi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ississippi State Flag"/>
          <p:cNvPicPr/>
          <p:nvPr/>
        </p:nvPicPr>
        <p:blipFill>
          <a:blip r:embed="rId6"/>
          <a:stretch/>
        </p:blipFill>
        <p:spPr>
          <a:xfrm>
            <a:off x="609480" y="533520"/>
            <a:ext cx="2057400" cy="1468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228600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S 50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ississippi State Fla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/22/20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heus50.com/mississippi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54100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Flag of Mississip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All images Copyright © 1997 - 2000 WriteLine. All Rights Reserved."/>
          <p:cNvPicPr/>
          <p:nvPr/>
        </p:nvPicPr>
        <p:blipFill>
          <a:blip r:embed="rId2"/>
          <a:stretch/>
        </p:blipFill>
        <p:spPr>
          <a:xfrm>
            <a:off x="228600" y="129528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All images Copyright © 1997 - 2000 WriteLine. All Rights Reserved."/>
          <p:cNvPicPr/>
          <p:nvPr/>
        </p:nvPicPr>
        <p:blipFill>
          <a:blip r:embed="rId3"/>
          <a:stretch/>
        </p:blipFill>
        <p:spPr>
          <a:xfrm>
            <a:off x="4495680" y="129528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0" y="4343400"/>
            <a:ext cx="403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Capitol, Jackson 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/22/20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ostcardsfrom.com/t1/000424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343400"/>
            <a:ext cx="403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Capitol, Jackson 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/22/20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postcardsfrom.com/t1/000424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53341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is a postcard from Mississip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55e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© 2000 WriteLine. Magnolia flower"/>
          <p:cNvPicPr/>
          <p:nvPr/>
        </p:nvPicPr>
        <p:blipFill>
          <a:blip r:embed="rId1"/>
          <a:stretch/>
        </p:blipFill>
        <p:spPr>
          <a:xfrm>
            <a:off x="380880" y="228600"/>
            <a:ext cx="2352960" cy="1971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22860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gnol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/22/20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stamp/stamp-m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© 1998 WriteLine. Mockingbird"/>
          <p:cNvPicPr/>
          <p:nvPr/>
        </p:nvPicPr>
        <p:blipFill>
          <a:blip r:embed="rId3"/>
          <a:stretch/>
        </p:blipFill>
        <p:spPr>
          <a:xfrm>
            <a:off x="3276720" y="228600"/>
            <a:ext cx="2028600" cy="219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352680" y="25146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ockingbi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/22/20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ostcardsfrom.com/stamp/stamp-m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© 2000 WriteLine. Magnolia tree"/>
          <p:cNvPicPr/>
          <p:nvPr/>
        </p:nvPicPr>
        <p:blipFill>
          <a:blip r:embed="rId5"/>
          <a:stretch/>
        </p:blipFill>
        <p:spPr>
          <a:xfrm>
            <a:off x="6095880" y="228600"/>
            <a:ext cx="2229120" cy="2190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25146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gnol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/22/2012, http://www.postcardsfrom.com/stamp/stamp-m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© 2000 WriteLine. Mississippi flag"/>
          <p:cNvPicPr/>
          <p:nvPr/>
        </p:nvPicPr>
        <p:blipFill>
          <a:blip r:embed="rId6"/>
          <a:stretch/>
        </p:blipFill>
        <p:spPr>
          <a:xfrm>
            <a:off x="6172200" y="3581280"/>
            <a:ext cx="2305080" cy="1495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248520" y="533412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Fla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/22/2012, http://www.postcardsfrom.com/stamp/stamp-m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© 2000 WriteLine. William Faulkner"/>
          <p:cNvPicPr/>
          <p:nvPr/>
        </p:nvPicPr>
        <p:blipFill>
          <a:blip r:embed="rId7"/>
          <a:stretch/>
        </p:blipFill>
        <p:spPr>
          <a:xfrm>
            <a:off x="609480" y="3352680"/>
            <a:ext cx="1876680" cy="2190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3520" y="563868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illiam Faulkn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/22/2012, http://www.postcardsfrom.com/stamp/stamp-m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42670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are some stamps from  Mississip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32Z</dcterms:created>
  <dc:creator>install</dc:creator>
  <dc:description/>
  <dc:language>en-US</dc:language>
  <cp:lastModifiedBy>install</cp:lastModifiedBy>
  <dcterms:modified xsi:type="dcterms:W3CDTF">2012-04-16T13:04:40Z</dcterms:modified>
  <cp:revision>15</cp:revision>
  <dc:subject/>
  <dc:title>Slide 1</dc:title>
</cp:coreProperties>
</file>